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420-DE5D-4F4C-BF69-82963F7F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0B9-A596-4CDB-AC65-74DD86ED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DB4-5268-4791-B4C2-94490D66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B51-639E-410E-95A3-A7E9691E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B1A-39F7-454E-BE2D-4073450B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B3C-21E7-4244-8A17-8904D8B2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BB3-C548-4764-A955-8BD14ADB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9B2-CB30-4259-99FC-415D973F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9ED-1DD7-4B9B-925B-51811470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3D5-ED7D-4EDE-BFE4-D212A87B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D3A-5AB3-40E6-A4CB-81CD1809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E18-FB0D-4015-B5AC-E5C4351A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66FB-E113-4391-9617-B38937E4BB66}" type="slidenum">
              <a:rPr b="0" lang="ar-A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 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0:05:58Z</dcterms:created>
  <dc:creator>Anthony</dc:creator>
  <dc:description/>
  <dc:language>en-US</dc:language>
  <cp:lastModifiedBy> Ahmad Abdel Rahman</cp:lastModifiedBy>
  <dcterms:modified xsi:type="dcterms:W3CDTF">2004-08-02T14:07:24Z</dcterms:modified>
  <cp:revision>2</cp:revision>
  <dc:subject/>
  <dc:title>brother2</dc:title>
</cp:coreProperties>
</file>